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460-51F4-46F9-A6F8-0F266B0C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3E0-AC25-4923-96FE-C30AFA1E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7F0-9AF3-4C29-A2DB-99CF446E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786-A2A4-4D5E-A289-1DDE087C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4476-CCB9-49EA-BB3B-45A2548D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C36A-C97C-4B7C-8964-86000B6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B4A1-EA7A-487B-AD5D-605272BF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B3F3-ED86-4E9E-BA86-765B9FB2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BA64-2C6B-495A-9CF1-4958F7A3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F2D9-E4DA-41C1-9449-17C8284F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06C9-C88A-4EF4-AA81-23316FCE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F44-DCA8-4B82-93C8-995B323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6321-0871-4595-9AF4-2C5FEB1F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6D14-9E40-48A1-B1B2-7859510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AF67-68F7-4A68-B0BC-B2EFD789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379-89F3-4729-94D3-02B95B27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A244-3A43-433B-9147-0BB85609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CF1-543D-4D0D-A14A-4458AAE7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301-FA6F-491F-8427-6D0CD303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C40-CCAB-46CC-9899-7F1BA453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A50-F90E-47FA-9A69-7B6D29BD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6DE-1AAE-4309-A406-2B00DD5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EE5-45A3-4F77-AEC3-91E5940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991-ECF0-4F95-BE63-7183311C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CCB5-ECD0-4D36-BAB8-EECE3EFE4C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165-BBC5-431E-A212-D368C8EA32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751746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rutina de Pablo y Maria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Tatiana tinsle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blo y Maria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pier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mpr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van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gu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6520" y="1600200"/>
          <a:ext cx="404028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600200"/>
                    <a:ext cx="40402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17524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333396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uchacho y la muchacha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v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cara. Y el muchacho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e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 la navaja y la crema de afeitar. La muchacha no se afeita porque no tiene tiemp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6160" y="1600200"/>
            <a:ext cx="404028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6160" y="3941280"/>
            <a:ext cx="4040280" cy="218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0" y="3049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477120" y="3124080"/>
            <a:ext cx="2381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24280" y="3962520"/>
            <a:ext cx="1332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" dur="1" fill="hold"/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uchach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ma una duc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se lava el pelo con el cham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chach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 b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no se lava el pelo 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6160" y="1599840"/>
            <a:ext cx="4040280" cy="453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201760" cy="330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19720" y="3733920"/>
            <a:ext cx="361944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los s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cepilla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los dientes con un tubo de pasta dentifrica y el cepillo de diente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43400" y="335268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7200" y="2133720"/>
            <a:ext cx="285768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 s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maqui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Ella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ne la ro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l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 cepil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 pelo con un cepillo. No se mira en el espejo cuando se cepill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6160" y="1600200"/>
            <a:ext cx="40402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6160" y="3941280"/>
            <a:ext cx="4040280" cy="2189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802480" y="0"/>
            <a:ext cx="3341520" cy="341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95880" y="3886200"/>
            <a:ext cx="2067120" cy="206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143000" y="426708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b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 mi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el espejo cuand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e pei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 pelo con un peine. Ello se pone la ropa. El usa col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6160" y="1599840"/>
            <a:ext cx="4040280" cy="453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0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73392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934320" y="2971800"/>
            <a:ext cx="1903320" cy="297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572000" y="3124080"/>
            <a:ext cx="2187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0f4d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se sientan en la silla en la mesa. Pablo y Maria desayunan. Para desayuno comen el cereal, e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ancés tostad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un vaso de jugo de nar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6160" y="1600200"/>
            <a:ext cx="40402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6160" y="3941280"/>
            <a:ext cx="404028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4191120" cy="291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629400" y="304812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511360" cy="150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>
            <a:alphaModFix amt="0"/>
          </a:blip>
          <a:stretch/>
        </p:blipFill>
        <p:spPr>
          <a:xfrm>
            <a:off x="304920" y="520056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36:46Z</dcterms:created>
  <dc:creator>tinsleybusbytat</dc:creator>
  <dc:description/>
  <dc:language>en-US</dc:language>
  <cp:lastModifiedBy>tinsleybusbytat</cp:lastModifiedBy>
  <dcterms:modified xsi:type="dcterms:W3CDTF">2012-04-05T15:33:53Z</dcterms:modified>
  <cp:revision>11</cp:revision>
  <dc:subject/>
  <dc:title>La rutina de Pablo y Maria</dc:title>
</cp:coreProperties>
</file>